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124C-B750-4521-90EF-8C24DB3E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D5A5-03BE-498A-A61B-37D5C083E3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4F5-5623-457B-A0C9-4DB0AE6F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2AB-02C8-4D8B-A9A2-C63F801F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5AC-5348-4076-856F-60F08CE3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4B0-4AA6-4F56-B4AD-17D3569F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3A6-8706-4E24-9AE6-5689E7CC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002-7745-465F-BF15-F214B28F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7EE-EB14-4F04-810B-106A4060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A0B-6A12-461B-BB39-E72DBF6B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2FA-EF87-4705-AA69-2338E249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75E-2537-4B5B-A170-2FDED0F0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78A-0769-4336-8FA3-31CF04A2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315-AA88-46C2-B259-B6105ABE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D2D5-3018-46F9-A12C-09C82D457F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enske.wikispaces.com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-231840" y="-225360"/>
            <a:ext cx="9375840" cy="3992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403704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Please find your seat (name on note card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838080" y="838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Final Exam = 14%, all M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Rectangle 6" descr=""/>
          <p:cNvPicPr/>
          <p:nvPr/>
        </p:nvPicPr>
        <p:blipFill>
          <a:blip r:embed="rId1"/>
          <a:stretch/>
        </p:blipFill>
        <p:spPr>
          <a:xfrm>
            <a:off x="92160" y="146160"/>
            <a:ext cx="9051840" cy="768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838080" y="1639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re Assessments = 3% each, in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Rectangle 8" descr=""/>
          <p:cNvPicPr/>
          <p:nvPr/>
        </p:nvPicPr>
        <p:blipFill>
          <a:blip r:embed="rId2"/>
          <a:stretch/>
        </p:blipFill>
        <p:spPr>
          <a:xfrm>
            <a:off x="2822400" y="2822400"/>
            <a:ext cx="3133800" cy="920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91440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Before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914400" y="4535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fter school certain days (check fir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914400" y="5257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4"/>
          <p:cNvSpPr/>
          <p:nvPr/>
        </p:nvSpPr>
        <p:spPr>
          <a:xfrm>
            <a:off x="914400" y="6080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rking Perio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W = 10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asswork = 2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izzes/Tests/Projects = 7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Rectangle 6" descr=""/>
          <p:cNvPicPr/>
          <p:nvPr/>
        </p:nvPicPr>
        <p:blipFill>
          <a:blip r:embed="rId1"/>
          <a:stretch/>
        </p:blipFill>
        <p:spPr>
          <a:xfrm>
            <a:off x="3309840" y="-85680"/>
            <a:ext cx="2444760" cy="92700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8" descr=""/>
          <p:cNvPicPr/>
          <p:nvPr/>
        </p:nvPicPr>
        <p:blipFill>
          <a:blip r:embed="rId2"/>
          <a:stretch/>
        </p:blipFill>
        <p:spPr>
          <a:xfrm>
            <a:off x="1828800" y="3352680"/>
            <a:ext cx="5578560" cy="92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1828800" y="41148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MP1 = 40%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828800" y="4724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MP2 = 4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828800" y="5334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Final Exam = 14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ssessments = 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3151080" y="536400"/>
            <a:ext cx="2725920" cy="9208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04920" y="16002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cnelis.wikispaces.com</a:t>
            </a:r>
            <a:r>
              <a:rPr b="0" lang="en-US" sz="4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85800" y="30492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-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get out a piece of paper, put your name at the to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e following on the pap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80880" y="76320"/>
            <a:ext cx="89154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BAR CHART FROM THE FOLLOWING DATA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y affiliations in a sample of Bucks County residen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152280" y="76320"/>
            <a:ext cx="891540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CREATE A PIE CHART FROM THE FOLLOWING DATA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ngs from a sample of 2007 movie release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G-1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52280" y="0"/>
            <a:ext cx="8763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) CREATE A STEMPLOT FROM THE FOLLOWING DATA: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mall sample of pitch speeds from an MLB pitcher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5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7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8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8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52280" y="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) WRITE DOWN HOW OLD YOU THINK I AM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nt: I have graduated from college (22) and am younger than 45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ages 2-3. Flip through the book when do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you notice about this textbook compared to textbooks from other math class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books!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90560" y="1295280"/>
            <a:ext cx="60958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parts of a complete answer. The tell part is usually the most importan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examples to follow when doing your homework and classwor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be used as closure activi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ortant Parts of this Textbook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914400" cy="1699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214164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1066680" y="5203800"/>
            <a:ext cx="99072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28600" y="1522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lease take a textbook  from the counter at the back of the 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4920" y="21049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lease look over the book for any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cord your book number and any problems on the sheet being passed aroun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section for helping you not make common mistak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676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547524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1524240" cy="49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914400" y="5410080"/>
            <a:ext cx="126684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Content Placeholder 1"/>
          <p:cNvSpPr/>
          <p:nvPr/>
        </p:nvSpPr>
        <p:spPr>
          <a:xfrm>
            <a:off x="380880" y="3581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ontent Placeholder 1"/>
          <p:cNvSpPr/>
          <p:nvPr/>
        </p:nvSpPr>
        <p:spPr>
          <a:xfrm>
            <a:off x="2286000" y="464832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finitions with page numb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Content Placeholder 1"/>
          <p:cNvSpPr/>
          <p:nvPr/>
        </p:nvSpPr>
        <p:spPr>
          <a:xfrm>
            <a:off x="2209680" y="54100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nk; Show; Tell aga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 - Dat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57200" y="838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ead p. 7 to middle of p. 9 in th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57200" y="163044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ontext of the data is absolutely essential before we do anything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32306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The W’s (and H): Who, What, When, Where, Why, 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" y="4297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ta tables help organize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57200" y="48672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Each row of a data table is called an individual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304920" y="228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ndividuals do not always me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04920" y="2362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ases are usually from a SAMPLE of a larger POPULATION (hopefully representa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57200" y="1143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ndividuals = the things that we want to collect data from.  People, animals, car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04920" y="3571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OPULATION = ALL individuals that we want to conclude 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325440" y="480204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AMPLE = small group of the population that we actually collect data from.  Use this data to conclude about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3808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o middle of p. 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are the “WHAT” of the data- things that were observed or collect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types of variabl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egorical: variable that names categories (words or numer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ative: variable with numeric values, makes sense to take an averag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st have uni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1023840" indent="-514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xamples: Colleges/Universi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17      #13-1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online Quia survey by midnight tonight! See wikispace for lin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Ch. 1 -- 3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 Ch. 3 notes for tmrw! (if you want the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t formula sheet for the cour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page of fact sheet filled out &amp; signed- DUE FRID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384120" y="-60480"/>
            <a:ext cx="8302680" cy="1541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094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rew up in Philly and N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09480" y="1868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Went to Virginia 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609480" y="39258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Enjoy running (half marathons, 10K, etc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09480" y="461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ach X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09480" y="529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Teach AP Stat, Stat &amp; Data Analysis, and Applied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609480" y="2610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raduated with degree in Math, minors in Spanish and 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4"/>
          <p:cNvSpPr/>
          <p:nvPr/>
        </p:nvSpPr>
        <p:spPr>
          <a:xfrm>
            <a:off x="1447920" y="118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athering &amp; analyzing da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447920" y="20001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Making conclusions from data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th small and br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Rectangle 6" descr=""/>
          <p:cNvPicPr/>
          <p:nvPr/>
        </p:nvPicPr>
        <p:blipFill>
          <a:blip r:embed="rId1"/>
          <a:stretch/>
        </p:blipFill>
        <p:spPr>
          <a:xfrm>
            <a:off x="2060640" y="152280"/>
            <a:ext cx="5387760" cy="920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447920" y="3352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mbination of Math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ri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/>
          <p:cNvSpPr/>
          <p:nvPr/>
        </p:nvSpPr>
        <p:spPr>
          <a:xfrm>
            <a:off x="1285920" y="8017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3 ring bi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295280" y="1487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Rectangle 8" descr=""/>
          <p:cNvPicPr/>
          <p:nvPr/>
        </p:nvPicPr>
        <p:blipFill>
          <a:blip r:embed="rId1"/>
          <a:stretch/>
        </p:blipFill>
        <p:spPr>
          <a:xfrm>
            <a:off x="2730600" y="-36360"/>
            <a:ext cx="2908080" cy="920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0"/>
          <p:cNvSpPr/>
          <p:nvPr/>
        </p:nvSpPr>
        <p:spPr>
          <a:xfrm>
            <a:off x="1295280" y="2173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ALCULATOR: 83+, 84, or 84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Rectangle 11" descr=""/>
          <p:cNvPicPr/>
          <p:nvPr/>
        </p:nvPicPr>
        <p:blipFill>
          <a:blip r:embed="rId2"/>
          <a:stretch/>
        </p:blipFill>
        <p:spPr>
          <a:xfrm>
            <a:off x="2262240" y="2846520"/>
            <a:ext cx="3846600" cy="920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1285920" y="3773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Personal Responsibility &amp; Resp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1295280" y="4459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llege student behavi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295280" y="5145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ell phone poli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1295280" y="3733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Tough grading… pick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295280" y="9907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WILL prepare you for the exam (whether you are taking it or n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Rectangle 6" descr=""/>
          <p:cNvPicPr/>
          <p:nvPr/>
        </p:nvPicPr>
        <p:blipFill>
          <a:blip r:embed="rId1"/>
          <a:stretch/>
        </p:blipFill>
        <p:spPr>
          <a:xfrm>
            <a:off x="1944720" y="152280"/>
            <a:ext cx="5473800" cy="920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"/>
          <p:cNvSpPr/>
          <p:nvPr/>
        </p:nvSpPr>
        <p:spPr>
          <a:xfrm>
            <a:off x="1295280" y="2401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FAST PAC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295280" y="30877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Work Load (College leve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1295280" y="954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 FRIDAY, MAY 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12:00 p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295280" y="1716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Review sessions at night in Apr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tangle 6" descr=""/>
          <p:cNvPicPr/>
          <p:nvPr/>
        </p:nvPicPr>
        <p:blipFill>
          <a:blip r:embed="rId1"/>
          <a:stretch/>
        </p:blipFill>
        <p:spPr>
          <a:xfrm>
            <a:off x="3309840" y="79200"/>
            <a:ext cx="2878200" cy="920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1295280" y="2401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Strongly encouraged to take ex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1295280" y="3087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ollege credit, saving $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25146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bsences, Lates, Cu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tangle 6" descr=""/>
          <p:cNvPicPr/>
          <p:nvPr/>
        </p:nvPicPr>
        <p:blipFill>
          <a:blip r:embed="rId1"/>
          <a:stretch/>
        </p:blipFill>
        <p:spPr>
          <a:xfrm>
            <a:off x="2895480" y="0"/>
            <a:ext cx="3492720" cy="9208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8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768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1600200" y="2895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m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600200" y="3581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r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600200" y="42670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Late assignme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W = ½ cre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190512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nnounced/unannounc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905120" y="15429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Calculators- allowed on all, cleared before &amp; af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tangle 6" descr=""/>
          <p:cNvPicPr/>
          <p:nvPr/>
        </p:nvPicPr>
        <p:blipFill>
          <a:blip r:embed="rId1"/>
          <a:stretch/>
        </p:blipFill>
        <p:spPr>
          <a:xfrm>
            <a:off x="384120" y="0"/>
            <a:ext cx="8478720" cy="92088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8" descr=""/>
          <p:cNvPicPr/>
          <p:nvPr/>
        </p:nvPicPr>
        <p:blipFill>
          <a:blip r:embed="rId2"/>
          <a:stretch/>
        </p:blipFill>
        <p:spPr>
          <a:xfrm>
            <a:off x="2895480" y="4376880"/>
            <a:ext cx="2494080" cy="92052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1905120" y="5297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Amount (3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905120" y="598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Grading &amp; Lat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905120" y="2782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MC &amp; 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1905120" y="3468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Re-t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19:48Z</dcterms:created>
  <dc:creator>Lauren Senske</dc:creator>
  <dc:description/>
  <dc:language>en-US</dc:language>
  <cp:lastModifiedBy>MCNELIS, LAUREN</cp:lastModifiedBy>
  <dcterms:modified xsi:type="dcterms:W3CDTF">2013-02-01T21:36:55Z</dcterms:modified>
  <cp:revision>115</cp:revision>
  <dc:subject/>
  <dc:title>Slide 1</dc:title>
</cp:coreProperties>
</file>